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5.png" ContentType="image/png"/>
  <Override PartName="/ppt/media/GUITELEC.WAV" ContentType="audio/x-wav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6.jpeg" ContentType="image/jpeg"/>
  <Override PartName="/ppt/media/image17.wmf" ContentType="image/x-wmf"/>
  <Override PartName="/ppt/media/image13.wmf" ContentType="image/x-wmf"/>
  <Override PartName="/ppt/media/image11.wmf" ContentType="image/x-wmf"/>
  <Override PartName="/ppt/media/image15.wmf" ContentType="image/x-wmf"/>
  <Override PartName="/ppt/media/image32.png" ContentType="image/png"/>
  <Override PartName="/ppt/media/image7.png" ContentType="image/png"/>
  <Override PartName="/ppt/media/image37.png" ContentType="image/png"/>
  <Override PartName="/ppt/media/image40.wmf" ContentType="image/x-wmf"/>
  <Override PartName="/ppt/media/image3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6.wmf" ContentType="image/x-wmf"/>
  <Override PartName="/ppt/media/image36.png" ContentType="image/png"/>
  <Override PartName="/ppt/media/image27.png" ContentType="image/png"/>
  <Override PartName="/ppt/media/TIMPANI.WAV" ContentType="audio/x-wav"/>
  <Override PartName="/ppt/media/image12.wmf" ContentType="image/x-wmf"/>
  <Override PartName="/ppt/media/image5.wmf" ContentType="image/x-wmf"/>
  <Override PartName="/ppt/media/image10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BACH.WAV" ContentType="audio/x-wav"/>
  <Override PartName="/ppt/media/image31.png" ContentType="image/png"/>
  <Override PartName="/ppt/media/image4.wmf" ContentType="image/x-wmf"/>
  <Override PartName="/ppt/media/image3.wmf" ContentType="image/x-wmf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52B-C336-40E9-A56F-B6C1F07D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DA4-2DDC-449B-B218-93E82148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68E-FE24-4391-8839-BAB421BF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D0C-EBE0-47D3-8857-A4641576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D15-8124-4AC2-86A9-A52E1A5B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D05-5EC9-470B-8586-656E9455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452-CD63-4107-BAC5-B36941D8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33B-A86B-4396-B2AB-9841CB68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E2F-F894-4745-BAC1-BCEDD96E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3EB-E8EC-4F46-8456-4BD0DFB6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70B-7C55-4186-BD44-0F867E74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E99-FF8E-40C5-8BC2-E974AD92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DDAC-2A31-45F1-8AA4-76C39E261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audio" Target="../media/TIMPANI.WAV"/><Relationship Id="rId7" Type="http://schemas.openxmlformats.org/officeDocument/2006/relationships/audio" Target="../media/BACH.WAV"/><Relationship Id="rId8" Type="http://schemas.openxmlformats.org/officeDocument/2006/relationships/audio" Target="../media/GUITELEC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earofphysics.com/Sound/sounds.html" TargetMode="External"/><Relationship Id="rId2" Type="http://schemas.openxmlformats.org/officeDocument/2006/relationships/hyperlink" Target="http://library.thinkquest.org/19537/cgi-bin/showharm.cgi" TargetMode="External"/><Relationship Id="rId3" Type="http://schemas.openxmlformats.org/officeDocument/2006/relationships/hyperlink" Target="http://library.thinkquest.org/19537/java/Wave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mi.edu/~drussell/Demos/refract/refract.html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lessons.com/exp14b.htm" TargetMode="External"/><Relationship Id="rId2" Type="http://schemas.openxmlformats.org/officeDocument/2006/relationships/hyperlink" Target="http://library.thinkquest.org/19537/java/Beats.html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image" Target="../media/image12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png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4.png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80880" y="706320"/>
          <a:ext cx="7288200" cy="48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06320"/>
                    <a:ext cx="728820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57200" y="357120"/>
            <a:ext cx="1981080" cy="177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6467400" y="0"/>
            <a:ext cx="1984320" cy="418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4648320" y="3327480"/>
            <a:ext cx="327636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MPAN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A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ITELE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838080" y="2133720"/>
            <a:ext cx="7467840" cy="403848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143000" y="304920"/>
            <a:ext cx="71629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Sound generally travels fas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in solids and slowest in gas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but there are some exce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14400" y="2209680"/>
            <a:ext cx="739152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Medium Velocity (m/s)    Medium Velocity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ir 330                Carbon dioxide 2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elium 930                 Hydrogen 12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xygen 320                 Water 14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ea water 1520              Mercury 1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lass 5500                 Granite 59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Lead 1230                Pine wood 3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pper 3800               Aluminium 5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838080" y="26668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>
            <a:off x="838080" y="32004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7"/>
          <p:cNvSpPr/>
          <p:nvPr/>
        </p:nvSpPr>
        <p:spPr>
          <a:xfrm>
            <a:off x="838080" y="36576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>
            <a:off x="838080" y="464832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>
            <a:off x="838080" y="51814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838080" y="56386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838080" y="419112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4572000" y="2133720"/>
            <a:ext cx="0" cy="403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0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451240" y="609480"/>
            <a:ext cx="64972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Comic Sans MS"/>
              </a:rPr>
              <a:t>The human ear re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mplitude</a:t>
            </a:r>
            <a:r>
              <a:rPr b="1" lang="en-US" sz="4400" spc="-1" strike="noStrike">
                <a:solidFill>
                  <a:srgbClr val="ff0033"/>
                </a:solidFill>
                <a:latin typeface="Comic Sans MS"/>
              </a:rPr>
              <a:t>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lou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Comic Sans MS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frequency</a:t>
            </a:r>
            <a:r>
              <a:rPr b="1" lang="en-US" sz="4400" spc="-1" strike="noStrike">
                <a:solidFill>
                  <a:srgbClr val="ff0033"/>
                </a:solidFill>
                <a:latin typeface="Comic Sans MS"/>
              </a:rPr>
              <a:t>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itch</a:t>
            </a:r>
            <a:r>
              <a:rPr b="1" lang="en-US" sz="44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40520" y="1523880"/>
            <a:ext cx="7675920" cy="38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en to various sound frequencies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mixtures of sound waves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make your own sound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ear that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ates to pitch and amplitude re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loudness (for a given frequenc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79360" y="639720"/>
            <a:ext cx="44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 waves ref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600200" y="2819520"/>
            <a:ext cx="61722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 the refraction of sound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838080" y="3978360"/>
            <a:ext cx="7543800" cy="23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5812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61800" y="457200"/>
            <a:ext cx="845316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interfere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can cause “bea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run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mulations of interfering sound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result in discernable be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ew interference “beats” here and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What are evidences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nd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ffractio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of sou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0760" cy="660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4926240" y="928800"/>
            <a:ext cx="2037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9900"/>
                </a:solidFill>
                <a:latin typeface="Mickey"/>
                <a:ea typeface="Mickey"/>
              </a:rPr>
              <a:t></a:t>
            </a:r>
            <a:r>
              <a:rPr b="0" lang="en-US" sz="5000" spc="-1" strike="noStrike">
                <a:solidFill>
                  <a:srgbClr val="000000"/>
                </a:solidFill>
                <a:latin typeface="Mickey"/>
                <a:ea typeface="Mickey"/>
              </a:rPr>
              <a:t></a:t>
            </a:r>
            <a:r>
              <a:rPr b="1" lang="en-US" sz="5000" spc="-1" strike="noStrike">
                <a:solidFill>
                  <a:srgbClr val="3333cc"/>
                </a:solidFill>
                <a:latin typeface="Mickey"/>
                <a:ea typeface="Mickey"/>
              </a:rPr>
              <a:t></a:t>
            </a:r>
            <a:r>
              <a:rPr b="0" lang="en-US" sz="5000" spc="-1" strike="noStrike">
                <a:solidFill>
                  <a:srgbClr val="000000"/>
                </a:solidFill>
                <a:latin typeface="Mickey"/>
                <a:ea typeface="Mickey"/>
              </a:rPr>
              <a:t></a:t>
            </a:r>
            <a:r>
              <a:rPr b="0" lang="en-US" sz="5000" spc="-1" strike="noStrike">
                <a:solidFill>
                  <a:srgbClr val="ff9900"/>
                </a:solidFill>
                <a:latin typeface="Mickey"/>
                <a:ea typeface="Mickey"/>
              </a:rPr>
              <a:t>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930760" y="1598760"/>
            <a:ext cx="5979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All objects have a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frequency of vibr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522160" y="2886120"/>
            <a:ext cx="6407640" cy="21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Comic Sans MS"/>
              </a:rPr>
              <a:t>Reson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- the indu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of vibrations of a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rate by a vibrating sou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having the same frequ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891160" y="5075280"/>
            <a:ext cx="5878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sympathetic vibration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2590920" y="762120"/>
            <a:ext cx="85248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3"/>
          <a:stretch/>
        </p:blipFill>
        <p:spPr>
          <a:xfrm>
            <a:off x="7696080" y="762120"/>
            <a:ext cx="1135080" cy="892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716480" y="558720"/>
            <a:ext cx="5339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amous Bridge Collap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vidences of Reson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acoma Narrows li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thers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tac09"/>
          <p:cNvPicPr/>
          <p:nvPr/>
        </p:nvPicPr>
        <p:blipFill>
          <a:blip r:embed="rId1"/>
          <a:stretch/>
        </p:blipFill>
        <p:spPr>
          <a:xfrm>
            <a:off x="4876920" y="3695760"/>
            <a:ext cx="4086000" cy="2809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Palau5-524x781"/>
          <p:cNvPicPr/>
          <p:nvPr/>
        </p:nvPicPr>
        <p:blipFill>
          <a:blip r:embed="rId2"/>
          <a:stretch/>
        </p:blipFill>
        <p:spPr>
          <a:xfrm>
            <a:off x="380880" y="3733920"/>
            <a:ext cx="410076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304920" y="228600"/>
            <a:ext cx="6172200" cy="1981080"/>
          </a:xfrm>
          <a:prstGeom prst="rect">
            <a:avLst/>
          </a:prstGeom>
          <a:solidFill>
            <a:srgbClr val="ff00ff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981080" y="2666880"/>
            <a:ext cx="6400800" cy="1676520"/>
          </a:xfrm>
          <a:prstGeom prst="rect">
            <a:avLst/>
          </a:prstGeom>
          <a:solidFill>
            <a:srgbClr val="ff9900"/>
          </a:solidFill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28600" y="4800600"/>
            <a:ext cx="7467480" cy="182880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04920" y="304920"/>
            <a:ext cx="617220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resonant air column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mply a standing longitu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 system, much 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nding waves on a string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981080" y="2666880"/>
            <a:ext cx="65041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closed-pipe reson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ube in which one end is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the other end is cl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131120" y="4889520"/>
            <a:ext cx="5683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open-pipe reson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ube in which both 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 o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311560" y="2286000"/>
            <a:ext cx="4597200" cy="6350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/>
          <p:cNvSpPr/>
          <p:nvPr/>
        </p:nvSpPr>
        <p:spPr>
          <a:xfrm flipH="1" flipV="1" rot="10800000">
            <a:off x="304920" y="76320"/>
            <a:ext cx="8572320" cy="1752480"/>
          </a:xfrm>
          <a:prstGeom prst="pie">
            <a:avLst/>
          </a:prstGeom>
          <a:solidFill>
            <a:srgbClr val="3333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5800" y="152280"/>
            <a:ext cx="787572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osed pip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resonates whe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leng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f the air colum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pproxim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odd numb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wavelength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394000" y="2209680"/>
            <a:ext cx="43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= {(1,3,5,7,…)/4} *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59960" y="3243240"/>
            <a:ext cx="7701840" cy="3384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ith a slight correction for tube diamet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 find that the resonant wavelength of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osed pipe is given by the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 4 (l + 0.4d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wavelength of soun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 is the length of the closed pip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d d is the diameter of the pi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6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1226880" cy="54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"/>
          <p:cNvPicPr/>
          <p:nvPr/>
        </p:nvPicPr>
        <p:blipFill>
          <a:blip r:embed="rId2"/>
          <a:stretch/>
        </p:blipFill>
        <p:spPr>
          <a:xfrm>
            <a:off x="7467480" y="1447920"/>
            <a:ext cx="1455840" cy="1477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1203120" cy="511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"/>
          <p:cNvPicPr/>
          <p:nvPr/>
        </p:nvPicPr>
        <p:blipFill>
          <a:blip r:embed="rId4"/>
          <a:stretch/>
        </p:blipFill>
        <p:spPr>
          <a:xfrm>
            <a:off x="304920" y="2590920"/>
            <a:ext cx="1218960" cy="525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2311560" y="2362320"/>
            <a:ext cx="4597200" cy="63504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 flipH="1" flipV="1" rot="10800000">
            <a:off x="379800" y="76320"/>
            <a:ext cx="8496360" cy="1828800"/>
          </a:xfrm>
          <a:prstGeom prst="pie">
            <a:avLst/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914400" y="152280"/>
            <a:ext cx="742140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pen pip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resonates whe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f the air colum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pproxim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even numb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wavelength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340000" y="2286000"/>
            <a:ext cx="446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= {(2,4,6,8,…)/4} *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59520" y="3243240"/>
            <a:ext cx="7902720" cy="3384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ith a slight correction for tube diamet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 find that the resonant wavelength of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pen pipe is given by the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 2 (l + 0.8d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wavelength of soun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 is the length of the closed pip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d d is the diameter of the pi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304920" y="2476440"/>
            <a:ext cx="1181160" cy="571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304920" y="1806480"/>
            <a:ext cx="1181160" cy="55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3"/>
          <a:stretch/>
        </p:blipFill>
        <p:spPr>
          <a:xfrm>
            <a:off x="304920" y="1135080"/>
            <a:ext cx="1197000" cy="54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/>
          <p:cNvPicPr/>
          <p:nvPr/>
        </p:nvPicPr>
        <p:blipFill>
          <a:blip r:embed="rId4"/>
          <a:stretch/>
        </p:blipFill>
        <p:spPr>
          <a:xfrm>
            <a:off x="7467480" y="1447920"/>
            <a:ext cx="1455840" cy="1477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2"/>
          <p:cNvGraphicFramePr/>
          <p:nvPr/>
        </p:nvGraphicFramePr>
        <p:xfrm>
          <a:off x="1295280" y="0"/>
          <a:ext cx="646272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6462720" cy="23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48" name="Rectangle 3"/>
          <p:cNvSpPr/>
          <p:nvPr/>
        </p:nvSpPr>
        <p:spPr>
          <a:xfrm>
            <a:off x="228600" y="2616120"/>
            <a:ext cx="8634240" cy="3556080"/>
          </a:xfrm>
          <a:prstGeom prst="rect">
            <a:avLst/>
          </a:prstGeom>
          <a:solidFill>
            <a:srgbClr val="ff0033"/>
          </a:solidFill>
          <a:ln w="507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04920" y="2895480"/>
            <a:ext cx="853416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Arial Black"/>
              </a:rPr>
              <a:t>SOUN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 range of 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compression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requencies to which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omic Sans MS"/>
              </a:rPr>
              <a:t>human ear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is sens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062000" y="746280"/>
            <a:ext cx="729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Click here to see a simul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standing waves in a resonant tu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(closed and ope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earn more about resonance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6461280" cy="174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y aren’t there “black keys”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etween every two “white keys”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a piano keyboar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1-pianokeys"/>
          <p:cNvPicPr/>
          <p:nvPr/>
        </p:nvPicPr>
        <p:blipFill>
          <a:blip r:embed="rId2"/>
          <a:stretch/>
        </p:blipFill>
        <p:spPr>
          <a:xfrm>
            <a:off x="1600200" y="2666880"/>
            <a:ext cx="64771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095880" y="152280"/>
          <a:ext cx="2781360" cy="6386760"/>
        </p:xfrm>
        <a:graphic>
          <a:graphicData uri="http://schemas.openxmlformats.org/drawingml/2006/table">
            <a:tbl>
              <a:tblPr/>
              <a:tblGrid>
                <a:gridCol w="1363680"/>
                <a:gridCol w="1417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Comic Sans MS"/>
                          <a:ea typeface="Times New Roman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Comic Sans MS"/>
                          <a:ea typeface="Times New Roman"/>
                        </a:rPr>
                        <a:t>Frequency (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6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9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2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52"/>
          <p:cNvSpPr/>
          <p:nvPr/>
        </p:nvSpPr>
        <p:spPr>
          <a:xfrm>
            <a:off x="1066680" y="685800"/>
            <a:ext cx="48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an you look at this chart of notes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requencies for the “white keys” and decide where “black keys” should be plac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3" descr=""/>
          <p:cNvPicPr/>
          <p:nvPr/>
        </p:nvPicPr>
        <p:blipFill>
          <a:blip r:embed="rId2"/>
          <a:stretch/>
        </p:blipFill>
        <p:spPr>
          <a:xfrm>
            <a:off x="3886200" y="4114800"/>
            <a:ext cx="1981080" cy="241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07520" y="228600"/>
            <a:ext cx="850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ow look at a graph of those val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oes this graph help 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990720" y="1600200"/>
          <a:ext cx="7391160" cy="5226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39116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0" y="0"/>
          <a:ext cx="6858000" cy="404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685800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934320" y="380880"/>
          <a:ext cx="2019240" cy="6066000"/>
        </p:xfrm>
        <a:graphic>
          <a:graphicData uri="http://schemas.openxmlformats.org/drawingml/2006/table">
            <a:tbl>
              <a:tblPr/>
              <a:tblGrid>
                <a:gridCol w="946080"/>
                <a:gridCol w="10731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Comic Sans MS"/>
                          <a:ea typeface="Times New Roman"/>
                        </a:rPr>
                        <a:t>N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Comic Sans MS"/>
                          <a:ea typeface="Times New Roman"/>
                        </a:rPr>
                        <a:t>Frequency (H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6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9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2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53" descr="1-pianokeys"/>
          <p:cNvPicPr/>
          <p:nvPr/>
        </p:nvPicPr>
        <p:blipFill>
          <a:blip r:embed="rId4"/>
          <a:stretch/>
        </p:blipFill>
        <p:spPr>
          <a:xfrm>
            <a:off x="609480" y="3992400"/>
            <a:ext cx="5486400" cy="2806920"/>
          </a:xfrm>
          <a:prstGeom prst="rect">
            <a:avLst/>
          </a:prstGeom>
          <a:ln w="0">
            <a:noFill/>
          </a:ln>
        </p:spPr>
      </p:pic>
      <p:sp>
        <p:nvSpPr>
          <p:cNvPr id="155" name="Line 54"/>
          <p:cNvSpPr/>
          <p:nvPr/>
        </p:nvSpPr>
        <p:spPr>
          <a:xfrm>
            <a:off x="6172200" y="45720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55"/>
          <p:cNvSpPr/>
          <p:nvPr/>
        </p:nvSpPr>
        <p:spPr>
          <a:xfrm>
            <a:off x="5410080" y="10666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56"/>
          <p:cNvSpPr/>
          <p:nvPr/>
        </p:nvSpPr>
        <p:spPr>
          <a:xfrm>
            <a:off x="4876920" y="137160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57"/>
          <p:cNvSpPr/>
          <p:nvPr/>
        </p:nvSpPr>
        <p:spPr>
          <a:xfrm>
            <a:off x="4114800" y="17524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58"/>
          <p:cNvSpPr/>
          <p:nvPr/>
        </p:nvSpPr>
        <p:spPr>
          <a:xfrm>
            <a:off x="3048120" y="22096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59"/>
          <p:cNvSpPr/>
          <p:nvPr/>
        </p:nvSpPr>
        <p:spPr>
          <a:xfrm>
            <a:off x="3581280" y="19810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0"/>
          <p:cNvSpPr/>
          <p:nvPr/>
        </p:nvSpPr>
        <p:spPr>
          <a:xfrm>
            <a:off x="914400" y="28954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1"/>
          <p:cNvSpPr/>
          <p:nvPr/>
        </p:nvSpPr>
        <p:spPr>
          <a:xfrm>
            <a:off x="1752480" y="26668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62"/>
          <p:cNvSpPr/>
          <p:nvPr/>
        </p:nvSpPr>
        <p:spPr>
          <a:xfrm>
            <a:off x="2286000" y="251460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2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84600" y="3581280"/>
            <a:ext cx="887796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0033"/>
                </a:solidFill>
                <a:latin typeface="Arial Black"/>
              </a:rPr>
              <a:t>audio spectrum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xtends from approximate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9900"/>
                </a:solidFill>
                <a:latin typeface="Comic Sans MS"/>
              </a:rPr>
              <a:t>20 Hz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500" spc="-1" strike="noStrike">
                <a:solidFill>
                  <a:srgbClr val="009900"/>
                </a:solidFill>
                <a:latin typeface="Comic Sans MS"/>
              </a:rPr>
              <a:t>20,000 Hz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4398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360080" y="487440"/>
            <a:ext cx="67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ange of Some Common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62120" y="1138320"/>
            <a:ext cx="7467480" cy="5395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58400" y="30492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tensity Range for Some Common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59520" y="212760"/>
            <a:ext cx="801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Sounds are produced by</a:t>
            </a:r>
            <a:r>
              <a:rPr b="0" lang="en-US" sz="3000" spc="-1" strike="noStrike">
                <a:solidFill>
                  <a:srgbClr val="ffff00"/>
                </a:solidFill>
                <a:latin typeface="Minnie"/>
                <a:ea typeface="Minnie"/>
              </a:rPr>
              <a:t></a:t>
            </a: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vibrating matter</a:t>
            </a:r>
            <a:r>
              <a:rPr b="0" lang="en-US" sz="3000" spc="-1" strike="noStrike">
                <a:solidFill>
                  <a:srgbClr val="ffff00"/>
                </a:solidFill>
                <a:latin typeface="Minnie"/>
                <a:ea typeface="Minnie"/>
              </a:rPr>
              <a:t>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30120" y="762120"/>
            <a:ext cx="8559720" cy="3530520"/>
          </a:xfrm>
          <a:prstGeom prst="rect">
            <a:avLst/>
          </a:prstGeom>
          <a:solidFill>
            <a:srgbClr val="0066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01000" y="1217520"/>
            <a:ext cx="1893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3600" spc="-1" strike="noStrike">
                <a:solidFill>
                  <a:srgbClr val="ccff66"/>
                </a:solidFill>
                <a:latin typeface="Comic Sans MS"/>
              </a:rPr>
              <a:t>r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820960" y="944640"/>
            <a:ext cx="137016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3352680" y="1905120"/>
          <a:ext cx="214560" cy="21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1905120"/>
                    <a:ext cx="21456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7"/>
          <p:cNvSpPr/>
          <p:nvPr/>
        </p:nvSpPr>
        <p:spPr>
          <a:xfrm>
            <a:off x="843840" y="2801880"/>
            <a:ext cx="21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4"/>
          <a:stretch/>
        </p:blipFill>
        <p:spPr>
          <a:xfrm>
            <a:off x="3276720" y="2708280"/>
            <a:ext cx="685800" cy="14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9"/>
          <p:cNvGraphicFramePr/>
          <p:nvPr/>
        </p:nvGraphicFramePr>
        <p:xfrm>
          <a:off x="2895480" y="3890880"/>
          <a:ext cx="209520" cy="20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890880"/>
                    <a:ext cx="20952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0"/>
          <p:cNvSpPr/>
          <p:nvPr/>
        </p:nvSpPr>
        <p:spPr>
          <a:xfrm>
            <a:off x="4255920" y="1217520"/>
            <a:ext cx="3287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7"/>
          <a:stretch/>
        </p:blipFill>
        <p:spPr>
          <a:xfrm>
            <a:off x="7491240" y="990720"/>
            <a:ext cx="1143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12"/>
          <p:cNvGraphicFramePr/>
          <p:nvPr/>
        </p:nvGraphicFramePr>
        <p:xfrm>
          <a:off x="7162920" y="1828800"/>
          <a:ext cx="214200" cy="21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1828800"/>
                    <a:ext cx="21420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13"/>
          <p:cNvSpPr/>
          <p:nvPr/>
        </p:nvSpPr>
        <p:spPr>
          <a:xfrm>
            <a:off x="4289760" y="2787480"/>
            <a:ext cx="319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3600" spc="-1" strike="noStrike">
                <a:solidFill>
                  <a:srgbClr val="ff66ff"/>
                </a:solidFill>
                <a:latin typeface="Comic Sans MS"/>
              </a:rPr>
              <a:t>air colum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0"/>
          <a:stretch/>
        </p:blipFill>
        <p:spPr>
          <a:xfrm>
            <a:off x="7392960" y="2590920"/>
            <a:ext cx="1268280" cy="156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15"/>
          <p:cNvGraphicFramePr/>
          <p:nvPr/>
        </p:nvGraphicFramePr>
        <p:xfrm>
          <a:off x="7183440" y="3987720"/>
          <a:ext cx="168120" cy="16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83440" y="3987720"/>
                    <a:ext cx="168120" cy="1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AutoShape 16"/>
          <p:cNvSpPr/>
          <p:nvPr/>
        </p:nvSpPr>
        <p:spPr>
          <a:xfrm flipH="1" flipV="1" rot="10800000">
            <a:off x="25560" y="5054760"/>
            <a:ext cx="9091440" cy="1396800"/>
          </a:xfrm>
          <a:prstGeom prst="pie">
            <a:avLst/>
          </a:prstGeom>
          <a:solidFill>
            <a:srgbClr val="d60093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2692440" y="6019920"/>
            <a:ext cx="3760920" cy="417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511200" y="4998960"/>
            <a:ext cx="825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nd is a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longitudinal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imes New Roman"/>
              </a:rPr>
              <a:t>It will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not</a:t>
            </a:r>
            <a:r>
              <a:rPr b="1" lang="en-US" sz="3200" spc="-1" strike="noStrike">
                <a:solidFill>
                  <a:srgbClr val="ccff66"/>
                </a:solidFill>
                <a:latin typeface="Times New Roman"/>
              </a:rPr>
              <a:t> travel through a vacu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075480" y="380880"/>
            <a:ext cx="5718600" cy="37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unds possess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 Black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d </a:t>
            </a: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properties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re common to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av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65560" y="790560"/>
            <a:ext cx="796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ust like all longitudinal (compres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, sound waves possess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frequenc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waveleng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erio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mplitu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75400" y="3990960"/>
            <a:ext cx="692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nd waves also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fle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fr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diffr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interf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79440" y="0"/>
            <a:ext cx="8763120" cy="225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879720" cy="5410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09480" y="122400"/>
            <a:ext cx="83822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The velocity of sound in air dep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on the air temperature. The spee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sound in dry air i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31.5 m/s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 at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º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292640" y="2158920"/>
            <a:ext cx="4368600" cy="416556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19720" y="2438280"/>
            <a:ext cx="41148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This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with temperature: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abou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.6 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every 1 </a:t>
            </a:r>
            <a:r>
              <a:rPr b="1" lang="en-US" sz="2400" spc="-1" strike="noStrike" baseline="70000">
                <a:solidFill>
                  <a:srgbClr val="ffff00"/>
                </a:solidFill>
                <a:latin typeface="Comic Sans MS"/>
              </a:rPr>
              <a:t>º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increase in temp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jluckey</cp:lastModifiedBy>
  <cp:lastPrinted>1998-08-05T01:01:16Z</cp:lastPrinted>
  <dcterms:modified xsi:type="dcterms:W3CDTF">2011-01-23T19:34:34Z</dcterms:modified>
  <cp:revision>50</cp:revision>
  <dc:subject/>
  <dc:title>No Slide Title</dc:title>
</cp:coreProperties>
</file>